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D0B-2667-45D9-BF0D-0CB5C6BA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6E3-7C85-435E-9723-77DF07B3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FC5-14D2-4995-A01F-2F2911B4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817-BE66-4F31-82F4-5ECC52C1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E57-D950-4D07-8308-4AFB2376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899-ED3C-423E-ADF0-16F4D8C4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878-B7B2-433B-80F4-9E049B5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36D-8761-4AB0-AC85-6903013A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3C3-13D4-496D-84FB-200395FD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D89-81E9-4342-BD9C-1BA10B22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845-FE5C-4DA8-95A8-FBD23D45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931-65A4-476E-BA0E-48F23A60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58D2-36D8-4408-8FB5-D4DA03D99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development.wikispaces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E114-04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nfant, Toddler and Early Childhood Development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Get comfortable, grab something to drink, and socialize with your classmates. We will begin at 8 P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Four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s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chart from course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a minimum of 6 items for each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 grading rubric prior to sub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Word to check spelling/gramm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5" descr="Dev.chart.jpg"/>
          <p:cNvPicPr/>
          <p:nvPr/>
        </p:nvPicPr>
        <p:blipFill>
          <a:blip r:embed="rId1"/>
          <a:stretch/>
        </p:blipFill>
        <p:spPr>
          <a:xfrm>
            <a:off x="4419720" y="1981080"/>
            <a:ext cx="4398840" cy="319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Four Project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6" descr="Unit4_Rubric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a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inte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reading.jpg"/>
          <p:cNvPicPr/>
          <p:nvPr/>
        </p:nvPicPr>
        <p:blipFill>
          <a:blip r:embed="rId1"/>
          <a:stretch/>
        </p:blipFill>
        <p:spPr>
          <a:xfrm>
            <a:off x="5638680" y="1676520"/>
            <a:ext cx="2819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 directed spe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rn capacity for langu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ist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development first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grandpa.jpg"/>
          <p:cNvPicPr/>
          <p:nvPr/>
        </p:nvPicPr>
        <p:blipFill>
          <a:blip r:embed="rId1"/>
          <a:stretch/>
        </p:blipFill>
        <p:spPr>
          <a:xfrm>
            <a:off x="5638680" y="1752480"/>
            <a:ext cx="313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hat are some things that adults can do to assist with language develop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cy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books for inf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When should we begin exposing infants to books? Why is this importan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this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natal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of infant, specifically vision and 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 nut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ive enviro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s with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hment/bo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ychosoci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ve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and literac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onsider what you, as a childcare professional, can do to provide the best environment for this development in infants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11480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time is nearly done for tonight. As always, I have really enjoyed this hour with yo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pe that you have a great wee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friends.coffee.jpg"/>
          <p:cNvPicPr/>
          <p:nvPr/>
        </p:nvPicPr>
        <p:blipFill>
          <a:blip r:embed="rId1"/>
          <a:stretch/>
        </p:blipFill>
        <p:spPr>
          <a:xfrm>
            <a:off x="914400" y="1828800"/>
            <a:ext cx="27622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night’s Qu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Play is often talked about as if it were a relief from serious learning. But for children play is serious learning. Play is really the work of childh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Roger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F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sychosocial and Cognitive Development of the Infa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120" y="28954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dentify important theories associated with the psychosocial and cognitive development of the infa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iscuss ways to facilitate social, emotional, and cognitive develop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escribe factors that influence the cognition, language, and literacy development of infa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hment/Bo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ychosoci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influencing psychosoci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ve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and Literac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influencing cognitive, language and literac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chment Theory/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1 – Indiscriminate responsiveness to humans – birth to 8-12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2 -  focusing on familiar people – 3-6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3 – Active proximity seeking – 6 months-3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4 – Partnership behavior – 3 years – end of childh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s’ 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at are some things that mothers can do to enable their infants to become sec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at are some things that fathers can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ELD TRIP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take a field trip to ou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ikispa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one article to read and one video to watch. Return to the seminar prepared to share one idea from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ow to Help Develop Literacy Skills in Pre-School Childr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rtic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aget – Stage 1 Sensorimotor (vide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20 fun, silly development-boosting games to play with your bab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rtic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by Signs (vide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ychosocial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ant temper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o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ing – mode of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al expr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babies.jpg"/>
          <p:cNvPicPr/>
          <p:nvPr/>
        </p:nvPicPr>
        <p:blipFill>
          <a:blip r:embed="rId1"/>
          <a:stretch/>
        </p:blipFill>
        <p:spPr>
          <a:xfrm>
            <a:off x="4724280" y="2362320"/>
            <a:ext cx="35197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nd and attach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experi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-cult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 with careg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ity of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parent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all health, safety and freedom from 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7:59:41Z</dcterms:created>
  <dc:creator>Joyce Jones</dc:creator>
  <dc:description/>
  <dc:language>en-US</dc:language>
  <cp:lastModifiedBy>Joyce Jones</cp:lastModifiedBy>
  <dcterms:modified xsi:type="dcterms:W3CDTF">2010-10-13T01:16:02Z</dcterms:modified>
  <cp:revision>26</cp:revision>
  <dc:subject/>
  <dc:title>Unit Four  Infant, Toddler and Early Childhood Development</dc:title>
</cp:coreProperties>
</file>